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72F-61A4-4E78-8C1C-61387D45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FDC-0A07-4F2D-9B2E-CE8D7189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905-F87A-4BCF-9C20-A3FB89A6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999-973D-4A76-B64B-6AA3D569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DE1-CAC7-42D1-B5F2-4729B2B5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9E4-5ECF-4417-8FD6-E4B72D17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871-3275-4F9D-8BD5-A35B23A9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69F-1EC6-49E2-B149-AD1AD4A4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16D-8E17-43C4-9018-79FF1084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E67-95D0-4D7C-90BE-B53B3EB3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48B-B724-44A3-995B-E7A63F17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76E-B164-49D3-82A3-1944CC20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9F67-7B3E-4871-814E-CB442CADF2E2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 rot="20826600">
            <a:off x="-533520" y="4571640"/>
            <a:ext cx="2514600" cy="2610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6984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 rot="20163000">
            <a:off x="7467480" y="5000400"/>
            <a:ext cx="1905120" cy="20095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2590920" y="1219320"/>
            <a:ext cx="3762360" cy="459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ds.yahoo.com/_ylt=A9gnMiHDlFRE5_AAuPmJzbkF;_ylu=X3oDMTBkbHNiZXJuBHBvcwM0NgRzZWMDc3I-/SIG=1jlefgu8o/EXP=1146480195/**http%3A//images.search.yahoo.com/search/images/view%3Fback=http%253A%252F%252Fimages.search.yahoo.com%252Fsearch%252Fimages%253F_adv_prop%253Dimages%2526imgsz%253Dall%2526vf%253Dall%2526va%253Dwheat%2526ei%253DUTF-8%2526fr%253DFP-tab-web-t%2526b%253D41%26w=287%26h=238%26imgurl=townsvillebulletin.news.com.au%252Fcommon%252Fimagedata%252F0%252C3600%252C5112689%252C00.jpg%26rurl=http%253A%252F%252Ftownsvillebulletin.news.com.au%252Fcommon%252Fstory_page%252F0%252C7034%252C18245438%2525255E421%252C00.html%26size=34.7kB%26name=0,3600,5112689,00.jpg%26p=wheat%26type=jpeg%26no=46%26tt=337,975%26ei=UTF-8%26src=p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37260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2438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حتى اقدر اتبع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شو ما عندي بقدمل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ما بخلي يعرف حدى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57400" cy="2206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لما يفتح باب المجد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ينزل ملاك ويحصد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يلي من زرع ايدي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أطيب قمحة بحقلتك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Wild Flowers and Wheat"/>
          <p:cNvPicPr/>
          <p:nvPr/>
        </p:nvPicPr>
        <p:blipFill>
          <a:blip r:embed="rId1"/>
          <a:stretch/>
        </p:blipFill>
        <p:spPr>
          <a:xfrm>
            <a:off x="0" y="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6520" y="141768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190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16765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ليه عم تشح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خبر ومال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ذا انا اعطي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ك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اعطيت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سنابل قمح خضراء ممتلئة"/>
          <p:cNvPicPr/>
          <p:nvPr/>
        </p:nvPicPr>
        <p:blipFill>
          <a:blip r:embed="rId1"/>
          <a:stretch/>
        </p:blipFill>
        <p:spPr>
          <a:xfrm>
            <a:off x="0" y="0"/>
            <a:ext cx="2514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قاعد في حبس مهجور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خفيفلوا من صليب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لصليب 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إللي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عا كتاف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3856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388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بالبرد ويوقف عاالباب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دملوا احسن تياب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تيابي صاروا قلال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747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30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مريض القلب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ومجروح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زيارتي بتقويلو الروح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اني روحت لعند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1:32:51Z</dcterms:created>
  <dc:creator>user</dc:creator>
  <dc:description/>
  <dc:language>en-US</dc:language>
  <cp:lastModifiedBy>Kalisse</cp:lastModifiedBy>
  <dcterms:modified xsi:type="dcterms:W3CDTF">2006-11-11T01:32:45Z</dcterms:modified>
  <cp:revision>19</cp:revision>
  <dc:subject/>
  <dc:title>Slide 1</dc:title>
</cp:coreProperties>
</file>